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B14A-070E-4B06-B45C-57F8E74FE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rolinasalt.com/?p=2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ynamicscience.com.au/tester/solutions/chemistry/foodchemistry/carbohydrates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en.wikipedia.org/wiki/File:NAD%2B_phys.sv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s://wikispaces.psu.edu/download/attachments/46695631/NAD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andwalk.blogspot.com/2007/04/riboflavin-vitamin-b2-fmn-and-fad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98/?rendertype=figure&amp;id=A196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drmccarthysciencehgms.blogspot.com/2010/03/endothermic-vs-exothermic-chemical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call collision theory from Grade 1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221F-034D-4B67-BD7A-CF109FD7EDA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glogster.com/glog.php?glog_id=10884793&amp;scale=54&amp;isprofile=true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1A52-BCDA-4905-A2BF-3565F5DF71D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215F-E27E-4AA4-B437-025DD0E6463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C0C-5F00-4BD3-82B3-9FDDA61C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E14-6056-48D7-AB34-C68B8FD6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D04-B0E7-410C-9D45-956C8B14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196-CA0C-421A-AC8B-403B4EC7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9F4-18D7-496E-BE48-7E958DA0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8FC-22A0-4E68-8945-56F5C073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C9E-E492-4822-AEF2-6CD5AB3D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2A5-2E8E-4FFF-B4AA-84CB1B8C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D06-E216-4C8C-994C-DC3C605D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6E4-34D8-40E3-88A6-CC88D5E1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2E1-F7D8-467B-B718-2731846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3A3-CC57-487D-A3A9-A7F96E0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B8EE-5B82-4977-A8FD-EF6BFF617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enzymes/enzym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br>
              <a:rPr sz="4400"/>
            </a:b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 can occur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ss or gain of electrons due to electronegativity differen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s effectively oxidized, O is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is oxi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(oxidation) of glucose releases a large amount of therm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ells, oxidation of glucose occurs in a series of steps (controlled oxidation) to minimize E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rrier: 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+ (nicotinamide adenine dinucleotide) is a coenzyme found in all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iacin)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3864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NAD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01600" y="1981080"/>
            <a:ext cx="694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rrier: F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 (flavin adenine dinucleotide) is a coenzyme involved in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iboflavin)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058840"/>
            <a:ext cx="3809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F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981160"/>
            <a:ext cx="77724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3960" y="1676520"/>
            <a:ext cx="4094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 us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practical source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isrupt or denatur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n-specific (would speed up all re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s and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0400" y="1981080"/>
            <a:ext cx="562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ow is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re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proper orientation of substrate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specific environments that promote cat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t strain on substrate bonds,  making them easier to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ation Energy &amp; Enzy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manasinc.com/webcontent/animations/content/enzymes/enzym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od As Fu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lost from one atom and gained by another at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ee also 1.1, page 1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izing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ing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entire atoms (with their electrons) are transferred during redox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4:20:41Z</dcterms:created>
  <dc:creator>rubina khan</dc:creator>
  <dc:description/>
  <dc:language>en-US</dc:language>
  <cp:lastModifiedBy>rubina khan</cp:lastModifiedBy>
  <dcterms:modified xsi:type="dcterms:W3CDTF">2013-03-07T07:29:58Z</dcterms:modified>
  <cp:revision>53</cp:revision>
  <dc:subject/>
  <dc:title>3.3 Enzymes &amp; Ea 3.4 Food As Fuel</dc:title>
</cp:coreProperties>
</file>